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C689D-1DEE-44E5-9E29-FE034C92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95EBE-524A-4FF5-BB0E-542C491CF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C899-1293-4399-93F4-09FC39D8B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55C3-A3C6-4463-BE5F-D07D0C46E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C1A8C-66C8-475C-8A63-9B4262EB5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AECF6-6A63-4774-86FD-914E1A65E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8975-48EC-4C06-B402-814A49E75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8E5DE-A8AB-44DC-BBDC-43E2A4653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DC34-2417-4A02-B6CB-A1738C9A5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2D260-5355-4564-BF6E-024CF814B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D075F-405F-407E-A157-3B7C6BC5B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11459-F73C-4B7E-B4D9-3AA3EDEB0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01D7-4D93-4CEC-9E3A-EDED79931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3E75-2C22-4304-9900-04791499F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C31BB-8B9A-4BC7-81F6-4BB6B9070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4BDDD-2E13-4ED5-85FF-2776F565D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F8C2B-3378-43D9-86C2-61F8BDB8D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0A869-56C5-4F99-B1C1-2BC6DBE95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97ECC-A8CC-41EF-8E41-E899571E9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8449-0295-4569-87E4-AED93D2A0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98CB3-B019-4F8E-BBCF-8810703FE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F21B1-FC7A-42D1-8F7E-9E6A335B8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AF823-8098-4422-B14F-953A6BB4A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0B10-F1E4-43F6-BA6B-FFD7B3918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09C34-D28D-4DA7-9207-1F0B32631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AF04-3ED6-4748-977D-7051D4920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5138D-1B7D-47DF-B6C2-2AD03862E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098D-5988-4590-ACF3-06EE03BA0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BB5B2-8C27-4034-BFCD-7956C6EE0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B84FB-7221-40F0-9345-A43C8E2A9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D2FF1-8D18-4DBE-8822-BD39D0AE4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C9BCE-9915-40D3-89D1-E5437D714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10943-618B-4F10-8CAA-7DE8B5C55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9BBEB-5EB1-4141-B4AD-5CCFFFE92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8104-74BE-44E2-A771-0AEE11C74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044A-82FC-4AB0-B0F3-D52719A75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F779-2F40-408A-AD6C-4552E9623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9B28-240F-42E0-9D24-2930DCF3E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3A92-8090-41F0-B8B7-15B96858F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7112-6602-4E37-B989-418130C76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922C-8349-4F88-8446-98154F6BE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9356-9EE5-4B2F-8BEC-FEE8A7314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CBD5-1936-48BE-AD6D-71BBBD7E4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F175-FEC1-4A0B-8D20-F9DBDF9D7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124D-ABDE-4932-B886-5FF01A3B4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7702-6300-4EFE-80D7-55FF472E2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3758A-8AA5-4A0A-B509-9CAC8D92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2: </a:t>
            </a:r>
            <a:br>
              <a:rPr sz="36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How is SQL related to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4572000"/>
            <a:ext cx="9097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20640" y="24843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iewing relational datab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s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417680"/>
            <a:ext cx="90709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brother(Y,X)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  (</a:t>
            </a:r>
            <a:r>
              <a:rPr b="0" lang="et-EE" sz="2800" spc="-1" strike="noStrike">
                <a:solidFill>
                  <a:srgbClr val="c9211e"/>
                </a:solidFill>
                <a:latin typeface="Arial"/>
              </a:rPr>
              <a:t>?? check !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=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?? 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father(john)=pe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then just replace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-&gt;  e(Y,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&amp; e(Y,Z)  -&gt;  e(X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father(X,Z)  -&gt;  father(Y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father(Z,X)  -&gt;  father(Z,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(X,Y)  &amp; e(father(X),Z) -&gt; e(father(Y),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and theori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ithmetics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+ *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etc: procedural attachments (procedural data repres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String, list, date, f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etc etc proc attach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0" lang="et-EE" sz="2600" spc="-1" strike="noStrike">
                <a:solidFill>
                  <a:srgbClr val="2a6099"/>
                </a:solidFill>
                <a:latin typeface="Arial"/>
              </a:rPr>
              <a:t>built-in theories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like Presburger arithme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olvers focusing on procedural attachments and built-in theories are call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MT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solvers: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olvers modulo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id       name 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1, john, 10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158466"/>
                </a:solidFill>
                <a:latin typeface="Arial"/>
              </a:rPr>
              <a:t>clien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2, pete, -20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2637000"/>
            <a:ext cx="9070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remar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client(I, N, B)  &amp; B&lt;0   -&gt;  answer(N,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? answer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QL join as logic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lient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                        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ars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  name    balance                   id    model 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 john      100                         1      ford      1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 pete       -200                       2      opel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 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client(I, N, B)  &amp; cars(J, M, I)  -&gt;  ans(N, 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+(*(1.9, 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3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.9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hese things require extra care when encoding in logi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null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osed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values in two different locations are never equal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ient(1, jaan, null)  and car(1, opel, null) then null in client is not equal to null in 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null represents an existentially quantified v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xists X. client(1, jaan, 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2a6099"/>
                </a:solidFill>
                <a:latin typeface="Arial"/>
                <a:ea typeface="DejaVu Sans"/>
              </a:rPr>
              <a:t>Exists X. car(1, opel, X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ould mean in lo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name(1) =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name(2) = 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2a6099"/>
                </a:solidFill>
                <a:latin typeface="Arial"/>
                <a:ea typeface="DejaVu Sans"/>
              </a:rPr>
              <a:t>Client.balance(1) = 100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 table withou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wo identical facts in logic mean a single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payments(1, 100)  …. payments(1, 100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Classical logic is </a:t>
            </a:r>
            <a:r>
              <a:rPr b="1" lang="et-EE" sz="2600" spc="-1" strike="noStrike">
                <a:solidFill>
                  <a:srgbClr val="c9211e"/>
                </a:solidFill>
                <a:latin typeface="Arial"/>
              </a:rPr>
              <a:t>open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  <a:ea typeface="DejaVu Sans"/>
              </a:rPr>
              <a:t>We know N facts. We do NOT say that only these N facts hold: maybe there are M more facts which are true but which we do not k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In databases we normally assume that world is </a:t>
            </a:r>
            <a:r>
              <a:rPr b="1" lang="et-EE" sz="2600" spc="-1" strike="noStrike">
                <a:solidFill>
                  <a:srgbClr val="c9211e"/>
                </a:solidFill>
                <a:latin typeface="Arial"/>
              </a:rPr>
              <a:t>closed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Only these facts hold which we know. For example, we assume that all the payments performed are in our database. This allows us to us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aggregate functions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like sum, avg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 is knowing „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" (e.g., that Washington D.C. is the capital of Americ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d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fac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1&lt;123 || X2&lt;65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sod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o strict demarca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our b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1768320"/>
            <a:ext cx="907092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me initially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la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onverte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/ optim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2a6099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2a6099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arative knowledge converted to procedura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 eas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on an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/>
  <dcterms:modified xsi:type="dcterms:W3CDTF">2022-02-01T06:03:47Z</dcterms:modified>
  <cp:revision>35</cp:revision>
  <dc:subject/>
  <dc:title>Knowledge representation  lecture 1: intro and overview</dc:title>
</cp:coreProperties>
</file>